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9.png" ContentType="image/png"/>
  <Override PartName="/ppt/media/image10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56874-F78A-4224-845C-1D0DFAFE98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0A307-E3CA-48DC-91A5-126F173DEE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F86B5-0622-40A9-904F-7B393F4DBD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C69E7-58D3-47C8-B675-82517D2E08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F5D65-F9D1-4053-98FB-34AF1DBE4F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890A-C795-4E8C-8EA1-507DCD740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C4F5D-1D4D-499B-AF38-B91089978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5266F-0B54-4816-B9AE-82D31BA73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F6648-C801-43EB-BACA-4BB0FACB26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A371A-6D1B-461B-9A16-1330503072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EB224-A7B5-47FF-AF0B-3F26EF09A0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E68DE-6124-4D60-B0D0-AD45476C9F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256E8-AD29-4B95-9B65-2356CC4370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C79B0-2D52-4A56-8D56-2CA4F4E8A3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8A3CF-C651-4FDF-8B4E-E5E59B3A1C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2AE67-8FFD-4CFF-AE14-E9EA7D0E7F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F4C54-CC78-404B-8FE6-926F23137A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F0D48-D3C4-4593-B9C3-EDACF1DEAF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04BD-1CE2-424E-BE25-710AFAAD5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CF656-1692-4CEC-8E01-E640C521C0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96FC-6C8F-43D4-A062-DF513E67A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33B3A-D214-48F1-98CE-B724E05C72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C8EA9-1BC5-4AF5-8815-7EEF829A1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E2C45-0CA2-450F-83BD-34D7042579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8B057-810C-4FAA-9422-9A6C316946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EF6CB-CE26-433B-ACDF-3CB6C697E4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B9858-2821-4A13-9D0D-A11917BAB2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D022E-28D2-4DD3-9FF6-9E63783496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DEEEE-6B6B-4711-9501-B14F6D3097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6CB23-257C-48F8-9841-38998648CD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46F47-889A-4056-9491-44DCDE2A50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DF697-11FF-4C1F-9A83-DB9077D886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CFADA-A0AC-4718-B65B-88B373CA60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B0620-7C60-4F49-89B7-8DD88D4CE7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606C0-4AA4-45D9-8127-DCDEB69767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0839-AC2F-4A8C-A58D-A4BDBA2B5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EEE2-1B1A-479F-918C-ABBE2444A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41F7-CD39-4653-B0E7-B93BD525F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695C-F6CC-41B3-BE50-3F7E18FA3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2E9D-3BB7-4976-A3AE-7E89A4B7E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4EDD-67A6-4AD7-8D7D-D7493372A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80DF-83B5-4D4E-8858-CC9DA7D85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871A-99EB-4DBC-8A10-55F3294B1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7A04-F87D-4368-9E5B-7038E1D54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C53F-E61F-4292-AB96-D45816993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785B-1064-4A86-8532-D176CA1DD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A4FD-74D0-4238-90CD-278C23D95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93954-CEF2-43D9-A1FD-FBB67DB06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10-11-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36FFD-6BBE-4894-B232-A3ABEC7CF51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C134-776D-4342-B478-B8CFA3E48CF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1AE99-9D83-44EC-B0D0-0F262664E4C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6277A-4900-402B-A2D9-C4D5AC1E6D6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1D29-05B3-47F1-9FA9-D6E3FA0E4D4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34094-A778-4D8F-968D-E168FB0D52B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97B4B-1059-4E1E-8ACB-73E73ABAAD8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7543F-C09A-4468-8366-CFBEEC88E8E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ED6D9-66DD-44CB-8411-9EB3739AC2B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42D71-CC64-4C51-9905-5BB87DF20DB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Not ye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Debug data structures using printAny(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also switch to RML for an algorithmic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96A33-F99B-4D0A-ADDB-BBC4016A16A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AAFFB-B798-458D-9837-27EAA53C8B9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nging compiler to R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E94C3-8AB3-429E-B141-A1591DC51DE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 (RML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7D2A6-E8CF-4160-BEB8-29730678946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 flipV="1">
            <a:off x="5643360" y="2341440"/>
            <a:ext cx="1260360" cy="655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7B45F-7E11-4B09-879B-9013CB06403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74E9-0167-4BE5-A498-62960490B72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E5C30-601E-4C18-9911-56626595B12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07EE4-55C3-41B7-8AB0-838BC6F66F9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D73E3-B370-4199-AED8-285FE265597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57A3F-F287-4E12-B05D-A98EFC6FC1B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C6ADB-49A2-4800-9DE0-EA0CA919BDB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D2C72-0A84-4AE5-B7C3-C0B5D1167BA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7294-649E-4D66-B7BB-CA54651449D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F79AC-B6F3-4384-AB30-34A5907FD11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C9583-DD96-49F7-9DB9-52DB73E1A78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A005E-90AD-4680-9A95-27E1E8F46D9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92B7-E191-4E6B-82E1-01C225DFBE2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57C61-4422-43AF-BCDC-A71F10899D4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64F79-C4EE-4D84-99D2-BE0ACA46912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223E7-FDEC-4E8F-BB1D-FC153135BFD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A2867-6C24-459B-B602-7D17EF89181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D8A27-1B52-4653-8567-7020784D2B4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248E6-77DA-4BCD-A1D3-441B35F7E41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9C0DA-CCE0-400A-B5EA-C0CBC2E4C3F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AC242-4074-4509-9267-0670F73D5EF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A1180-AC66-45B1-9B66-F1B30B1332F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E3F6C-19EE-4B0C-B673-BCC9A332FC0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lvl="1" marL="535320" indent="-2005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197280" indent="-1972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D73EF-E0EA-4F38-BB93-BFD93006605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73AC2-8798-4370-A949-4983E60E861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2017F-CD34-4558-9CA6-E691069E850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1F92E-4731-486C-9075-1D8A64C5681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5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280 000 lines of MetaModelica (1.4.5 was 180 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1EB39-DBA4-496F-847E-332EE88C1D3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DB3D2-62AE-4812-A250-B2AFFC7291D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3040" y="765000"/>
          <a:ext cx="8509320" cy="2173284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2E91E-301A-4C64-B795-F79638E1E95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EF12B-0254-42A2-8561-8B7C04AE81A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EDA3C-6A33-4BAD-B3B3-474C78C5277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DCF1E-A92F-427A-9A85-DA52F4AA195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4F07D-A686-4385-8EC5-30F03049BEA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68DC-F70E-472B-933C-9D3136AADDF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68733-23C9-4533-9184-1C8F1987F88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09D21-79E5-4A1B-8FE5-FEC7503B753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52517-4583-4488-A28A-B1AD70E36B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